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444-DE71-4DCC-8975-FD0ACA03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F38-3C09-47BE-B9D9-5BA27CF7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704-B812-4DFE-80E4-E6A46671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B4C-DDCB-41FD-A187-661601A9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6EF-D0C5-406A-8998-FD4A8336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089-03D0-4350-A570-FF031F6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1F4-E3D7-42D3-BE7B-797F02D0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530-ABF5-47AF-AE17-6D60D0A8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D37-AD17-42BD-B3EC-BD667C9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B02-58BA-4BF0-89D7-4EC08025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D8E-7D08-4F6F-8470-FF7C160A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DFC-3A4F-4E74-94A6-DBCFF98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FF02-19C7-4472-A6C6-D1813E92F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nr.com/doc.mhtml?i=20020819&amp;s=halevi081902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ycovenant.com/Christian-Arabs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ideastfacts.com/PA_corptn_mnfsto.html" TargetMode="External"/><Relationship Id="rId2" Type="http://schemas.openxmlformats.org/officeDocument/2006/relationships/hyperlink" Target="http://www.mideastfacts.com/PA_corptn_mnfsto.html" TargetMode="External"/><Relationship Id="rId3" Type="http://schemas.openxmlformats.org/officeDocument/2006/relationships/hyperlink" Target="http://www.mideastfacts.com/PA_corptn_mnfsto.html" TargetMode="External"/><Relationship Id="rId4" Type="http://schemas.openxmlformats.org/officeDocument/2006/relationships/hyperlink" Target="http://www.mideastfacts.com/PA_corptn_mnfsto.html" TargetMode="External"/><Relationship Id="rId5" Type="http://schemas.openxmlformats.org/officeDocument/2006/relationships/hyperlink" Target="http://www.mideastfacts.com/PA_corptn_mnfsto.html" TargetMode="External"/><Relationship Id="rId6" Type="http://schemas.openxmlformats.org/officeDocument/2006/relationships/hyperlink" Target="http://www.mideastfacts.com/PA_corptn_mnfsto.html" TargetMode="External"/><Relationship Id="rId7" Type="http://schemas.openxmlformats.org/officeDocument/2006/relationships/hyperlink" Target="http://www.mideastfacts.com/PA_corptn_mnfsto.html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49200"/>
            <a:ext cx="9144000" cy="63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Dinamarca quita el ve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del nuevo plan de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Unión Europ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para Medio Or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cuyo objetivo es la creación de 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Estado Palestino.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  <a:ea typeface="Arial"/>
              </a:rPr>
              <a:t>AFP - (MIERCOLES, 28 DE AGSTO DE 2002  1:53:38 P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57040"/>
            <a:ext cx="845820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 Black"/>
                <a:ea typeface="Arial"/>
              </a:rPr>
              <a:t>Corrup</a:t>
            </a:r>
            <a:r>
              <a:rPr b="1" lang="es-AR" sz="4800" spc="-1" strike="noStrike">
                <a:solidFill>
                  <a:srgbClr val="ccccff"/>
                </a:solidFill>
                <a:latin typeface="Arial Black"/>
                <a:ea typeface="Arial"/>
              </a:rPr>
              <a:t>ción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Dinero occidental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destinado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p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ayudar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la econom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alestina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est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siendo utilizado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para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construir los palacios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de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los corruptos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l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deres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alestino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5181480" cy="301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248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http://www.mideastfacts.com/shameless_in_gaz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227160"/>
            <a:ext cx="861048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ccccff"/>
                </a:solidFill>
                <a:latin typeface="Arial Black"/>
                <a:ea typeface="Arial"/>
              </a:rPr>
              <a:t>Derechos de los </a:t>
            </a:r>
            <a:r>
              <a:rPr b="0" lang="en-US" sz="4600" spc="-1" strike="noStrike">
                <a:solidFill>
                  <a:srgbClr val="ccccff"/>
                </a:solidFill>
                <a:latin typeface="Arial Black"/>
                <a:ea typeface="Arial"/>
              </a:rPr>
              <a:t>Animal</a:t>
            </a:r>
            <a:r>
              <a:rPr b="0" lang="es-AR" sz="4600" spc="-1" strike="noStrike">
                <a:solidFill>
                  <a:srgbClr val="ccccff"/>
                </a:solidFill>
                <a:latin typeface="Arial Black"/>
                <a:ea typeface="Arial"/>
              </a:rPr>
              <a:t>es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El confirmar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un punto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durante una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manifestación,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es una raz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ó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n para matar animal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193920" y="2286000"/>
            <a:ext cx="2749680" cy="3733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646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</a:rPr>
              <a:t>http://www.oslo-war.com/sheep_eng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ccccff"/>
                </a:solidFill>
                <a:latin typeface="Arial"/>
                <a:ea typeface="Arial"/>
              </a:rPr>
              <a:t>Aten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ccccff"/>
                </a:solidFill>
                <a:latin typeface="Arial"/>
                <a:ea typeface="Arial"/>
              </a:rPr>
              <a:t>Comunidad Europea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ccccff"/>
                </a:solidFill>
                <a:latin typeface="Arial"/>
                <a:ea typeface="Arial"/>
              </a:rPr>
              <a:t>¿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Es </a:t>
            </a:r>
            <a:r>
              <a:rPr b="1" lang="es-AR" sz="4800" spc="-1" strike="noStrike">
                <a:solidFill>
                  <a:srgbClr val="ccccff"/>
                </a:solidFill>
                <a:latin typeface="Arial"/>
                <a:ea typeface="Arial"/>
              </a:rPr>
              <a:t>é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st</a:t>
            </a:r>
            <a:r>
              <a:rPr b="1" lang="es-AR" sz="4800" spc="-1" strike="noStrike">
                <a:solidFill>
                  <a:srgbClr val="ccccff"/>
                </a:solidFill>
                <a:latin typeface="Arial"/>
                <a:ea typeface="Arial"/>
              </a:rPr>
              <a:t>e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 e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Estado Palest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ccccff"/>
                </a:solidFill>
                <a:latin typeface="Arial"/>
                <a:ea typeface="Arial"/>
              </a:rPr>
              <a:t>que 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usted</a:t>
            </a:r>
            <a:r>
              <a:rPr b="1" lang="es-AR" sz="4800" spc="-1" strike="noStrike">
                <a:solidFill>
                  <a:srgbClr val="ccccff"/>
                </a:solidFill>
                <a:latin typeface="Arial"/>
                <a:ea typeface="Arial"/>
              </a:rPr>
              <a:t>es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 tiene</a:t>
            </a:r>
            <a:r>
              <a:rPr b="1" lang="es-AR" sz="4800" spc="-1" strike="noStrike">
                <a:solidFill>
                  <a:srgbClr val="ccccff"/>
                </a:solidFill>
                <a:latin typeface="Arial"/>
                <a:ea typeface="Arial"/>
              </a:rPr>
              <a:t>n</a:t>
            </a:r>
            <a:r>
              <a:rPr b="1" lang="en-US" sz="4800" spc="-1" strike="noStrike">
                <a:solidFill>
                  <a:srgbClr val="ccccff"/>
                </a:solidFill>
                <a:latin typeface="Arial"/>
                <a:ea typeface="Arial"/>
              </a:rPr>
              <a:t> en men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5600" y="6172200"/>
            <a:ext cx="70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Arial"/>
              </a:rPr>
              <a:t>P</a:t>
            </a:r>
            <a:r>
              <a:rPr b="1" lang="es-AR" sz="2400" spc="-1" strike="noStrike">
                <a:solidFill>
                  <a:srgbClr val="00cc99"/>
                </a:solidFill>
                <a:latin typeface="Arial"/>
                <a:ea typeface="Arial"/>
              </a:rPr>
              <a:t>or favor, contestenos a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Arial"/>
              </a:rPr>
              <a:t>: for-peace@graffiti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600">
            <a:off x="-730080" y="5376600"/>
            <a:ext cx="205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Morell \ Kovarsk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ni-palflg" descr="Palestine's Flag"/>
          <p:cNvPicPr/>
          <p:nvPr/>
        </p:nvPicPr>
        <p:blipFill>
          <a:blip r:embed="rId1"/>
          <a:stretch/>
        </p:blipFill>
        <p:spPr>
          <a:xfrm>
            <a:off x="3691080" y="2994120"/>
            <a:ext cx="176040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380880"/>
            <a:ext cx="64767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¿Qu</a:t>
            </a:r>
            <a:r>
              <a:rPr b="1" lang="he-IL" sz="5400" spc="-1" strike="noStrike">
                <a:solidFill>
                  <a:srgbClr val="ff0000"/>
                </a:solidFill>
                <a:latin typeface="Arial"/>
                <a:ea typeface="Arial"/>
              </a:rPr>
              <a:t>é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 tipo 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Estado Palestin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07348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  <a:ea typeface="Arial"/>
              </a:rPr>
              <a:t>Echemos una mirada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i-palflg" descr="Palestine's Flag"/>
          <p:cNvPicPr/>
          <p:nvPr/>
        </p:nvPicPr>
        <p:blipFill>
          <a:blip r:embed="rId1"/>
          <a:stretch/>
        </p:blipFill>
        <p:spPr>
          <a:xfrm>
            <a:off x="3691080" y="2994120"/>
            <a:ext cx="1760400" cy="86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57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Derechos Humano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de la Autoridad Palesti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181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ccff"/>
                </a:solidFill>
                <a:latin typeface="Times New Roman"/>
              </a:rPr>
              <a:t>Como atención para la Comunidad Euro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228600"/>
            <a:ext cx="78487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ccff"/>
                </a:solidFill>
                <a:latin typeface="Arial Black"/>
                <a:ea typeface="Arial"/>
              </a:rPr>
              <a:t>Derechos de la Mujer</a:t>
            </a:r>
            <a:br>
              <a:rPr sz="4800"/>
            </a:b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Pol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igamia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 -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OK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De la mujer para divorciarce -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No OK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Del hombre para divorciarce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OK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Muerte para lavar el h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onor 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OK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981080" y="3105000"/>
            <a:ext cx="4724640" cy="3143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6248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2000" spc="-1" strike="noStrike">
                <a:solidFill>
                  <a:srgbClr val="000000"/>
                </a:solidFill>
                <a:latin typeface="Times New Roman"/>
              </a:rPr>
              <a:t>http://www.merip.org/mer/mer206/ruggi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66076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5867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he-IL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nr.com/doc.mhtml?i=20020819&amp;s=halevi081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ccccff"/>
                </a:solidFill>
                <a:latin typeface="Arial Black"/>
                <a:ea typeface="Arial"/>
              </a:rPr>
              <a:t>Derechos para Homosexua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00200"/>
            <a:ext cx="914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Homosexuali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dad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 -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rimen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M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ayo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astigable 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con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 la c</a:t>
            </a:r>
            <a:r>
              <a:rPr b="1" lang="es-AR" sz="3300" spc="-1" strike="noStrike">
                <a:solidFill>
                  <a:srgbClr val="ff0000"/>
                </a:solidFill>
                <a:latin typeface="Arial"/>
                <a:ea typeface="Arial"/>
              </a:rPr>
              <a:t>á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Arial"/>
              </a:rPr>
              <a:t>rcel, tortura o muert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95120"/>
            <a:ext cx="86104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ccff"/>
                </a:solidFill>
                <a:latin typeface="Arial Black"/>
                <a:ea typeface="Arial"/>
              </a:rPr>
              <a:t>Derechos de los Niños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e adoctrina 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los ni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  <a:ea typeface="Arial"/>
              </a:rPr>
              <a:t>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os 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  <a:ea typeface="Arial"/>
              </a:rPr>
              <a:t>par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acerse 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  <a:ea typeface="Arial"/>
              </a:rPr>
              <a:t>“niño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oldados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y com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  <a:ea typeface="Arial"/>
              </a:rPr>
              <a:t>ete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suicidio</a:t>
            </a:r>
            <a:r>
              <a:rPr b="1" lang="es-AR" sz="36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es-AR" sz="2400" spc="-1" strike="noStrike">
                <a:solidFill>
                  <a:srgbClr val="ff0000"/>
                </a:solidFill>
                <a:latin typeface="Arial"/>
                <a:ea typeface="Arial"/>
              </a:rPr>
              <a:t>jempl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ttp://www.operationsick.com/articles/20001110_sacrifices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912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057400" y="2209680"/>
            <a:ext cx="4724280" cy="3645360"/>
            <a:chOff x="2057400" y="2209680"/>
            <a:chExt cx="4724280" cy="3645360"/>
          </a:xfrm>
        </p:grpSpPr>
        <p:pic>
          <p:nvPicPr>
            <p:cNvPr id="59" name="Picture 1030" descr=""/>
            <p:cNvPicPr/>
            <p:nvPr/>
          </p:nvPicPr>
          <p:blipFill>
            <a:blip r:embed="rId1"/>
            <a:stretch/>
          </p:blipFill>
          <p:spPr>
            <a:xfrm>
              <a:off x="2062080" y="2209680"/>
              <a:ext cx="471960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057400" y="5317920"/>
              <a:ext cx="4724280" cy="537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</a:t>
              </a:r>
              <a:r>
                <a:rPr b="1" lang="he-I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¿List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í, listo. Nos encontraremos en el Paraís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228600"/>
            <a:ext cx="7848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ccff"/>
                </a:solidFill>
                <a:latin typeface="Arial Black"/>
                <a:ea typeface="Arial"/>
              </a:rPr>
              <a:t>Derechos religiosos</a:t>
            </a:r>
            <a:r>
              <a:rPr b="0" lang="en-US" sz="4800" spc="-1" strike="noStrike">
                <a:solidFill>
                  <a:srgbClr val="ffff00"/>
                </a:solidFill>
                <a:latin typeface="Arial Black"/>
                <a:ea typeface="Arial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e tortura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 a los 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lestin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o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ristian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se lo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xtorsiona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 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aterroriz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blig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ándolo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nvertir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a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Isl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y se los persigue inclus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fuera del pa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  <a:ea typeface="Arial"/>
              </a:rPr>
              <a:t>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172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he-I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bycovenant.com/Christian-Arab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npo000006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4365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666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ccff"/>
                </a:solidFill>
                <a:latin typeface="Arial Black"/>
                <a:ea typeface="Arial"/>
              </a:rPr>
              <a:t>Derechos civ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248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http://www.foxnews.com/story/0,2933,47893,0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2550960" y="1066680"/>
            <a:ext cx="3544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4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95280" y="2286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ccff"/>
                </a:solidFill>
                <a:latin typeface="Arial Black"/>
                <a:ea typeface="Arial"/>
              </a:rPr>
              <a:t>Libertad de Opin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48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imes New Roman"/>
              </a:rPr>
              <a:t>Para mayor informació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ideastfact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PA_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rptn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_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nfsto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8"/>
          <a:stretch/>
        </p:blipFill>
        <p:spPr>
          <a:xfrm>
            <a:off x="2151000" y="1066680"/>
            <a:ext cx="4478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5:38:21Z</dcterms:created>
  <dc:creator>moshik+Motti</dc:creator>
  <dc:description/>
  <dc:language>en-US</dc:language>
  <cp:lastModifiedBy>motti</cp:lastModifiedBy>
  <dcterms:modified xsi:type="dcterms:W3CDTF">2003-02-12T12:00:56Z</dcterms:modified>
  <cp:revision>90</cp:revision>
  <dc:subject/>
  <dc:title>PowerPoint Presentation</dc:title>
</cp:coreProperties>
</file>