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34.jpeg" ContentType="image/jpeg"/>
  <Override PartName="/ppt/media/image39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7885-2B34-4C2F-9F6A-F75A7D7D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BCA-77F4-453B-ADFC-E13D992E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9F7-884D-4CAD-BF97-34750941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CF8-ED00-4CCC-87FC-5C831B6E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0BA-335B-4C1B-8DA2-2CF64EFC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FF2-5655-431D-9068-EE34D1E5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E41-357C-435C-9A2F-DACD74D2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0FB-06C9-4A7A-9B0C-E3F85CEE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606-B172-42B6-B5CC-C6908132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B65-D7C5-4045-B06A-7E5B2EEC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6032-6F4E-436D-BA56-3CF045B2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02B-256B-4296-BECB-BFEDB733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584B-C5B3-49E5-AA05-24D031E5CC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haaretzdaily.com/" TargetMode="External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mra.org/" TargetMode="External"/><Relationship Id="rId2" Type="http://schemas.openxmlformats.org/officeDocument/2006/relationships/hyperlink" Target="http://www.nyt.com/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imra.org/" TargetMode="External"/><Relationship Id="rId3" Type="http://schemas.openxmlformats.org/officeDocument/2006/relationships/hyperlink" Target="http://www.cnn.com/" TargetMode="External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nn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ime.com/" TargetMode="External"/><Relationship Id="rId2" Type="http://schemas.openxmlformats.org/officeDocument/2006/relationships/hyperlink" Target="http://www.bbc.com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ime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hyperlink" Target="http://www.bbc.com/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álisis del Medio Or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755964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s Acciones Militares Israelíes rec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claración 2: Los palestinos no tienen otra alternativa de defender su causa excepto a través del terror.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1990800"/>
            <a:ext cx="5791320" cy="3800520"/>
            <a:chOff x="1600200" y="1990800"/>
            <a:chExt cx="5791320" cy="380052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1600200" y="1990800"/>
              <a:ext cx="5791320" cy="38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96040" y="2676600"/>
              <a:ext cx="8380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19720" y="2521080"/>
              <a:ext cx="1371600" cy="9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stoy hacien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sto, para protestar por la ocup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¿Israel solo ha hecho concesiones a través del terr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334" t="1408" r="2595" b="5803"/>
          <a:stretch/>
        </p:blipFill>
        <p:spPr>
          <a:xfrm>
            <a:off x="5791320" y="1219320"/>
            <a:ext cx="297180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95280" y="586584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ra otorgada voluntariamente a Egipto a cambio de pa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38080" y="1447920"/>
            <a:ext cx="3810240" cy="2120760"/>
            <a:chOff x="838080" y="1447920"/>
            <a:chExt cx="3810240" cy="212076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1500120" y="1447920"/>
              <a:ext cx="248616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838080" y="3200400"/>
              <a:ext cx="38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z con Egipto (197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838080" y="3657600"/>
            <a:ext cx="3810240" cy="2059200"/>
            <a:chOff x="838080" y="3657600"/>
            <a:chExt cx="3810240" cy="2059200"/>
          </a:xfrm>
        </p:grpSpPr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1486080" y="3657600"/>
              <a:ext cx="2514600" cy="16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38080" y="5348520"/>
              <a:ext cx="38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z con Jordania (199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333760" y="2478240"/>
            <a:ext cx="2946240" cy="3883320"/>
            <a:chOff x="5333760" y="2478240"/>
            <a:chExt cx="2946240" cy="3883320"/>
          </a:xfrm>
        </p:grpSpPr>
        <p:sp>
          <p:nvSpPr>
            <p:cNvPr id="113" name=""/>
            <p:cNvSpPr/>
            <p:nvPr/>
          </p:nvSpPr>
          <p:spPr>
            <a:xfrm rot="20740200">
              <a:off x="6477120" y="2590920"/>
              <a:ext cx="1371600" cy="3657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333760" y="4572000"/>
              <a:ext cx="114300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visemos lo que ocurrió en Camp David y Ta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84280"/>
            <a:ext cx="858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 las negociaciones de Camp David (2000) y de Taba (2001), El gobierno de Barak ofreció a los Palestinos las mayores concesiones en la historia de la reg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4120" y="2362320"/>
            <a:ext cx="3352680" cy="4114800"/>
            <a:chOff x="5334120" y="2362320"/>
            <a:chExt cx="3352680" cy="4114800"/>
          </a:xfrm>
        </p:grpSpPr>
        <p:sp>
          <p:nvSpPr>
            <p:cNvPr id="118" name=""/>
            <p:cNvSpPr/>
            <p:nvPr/>
          </p:nvSpPr>
          <p:spPr>
            <a:xfrm>
              <a:off x="5334120" y="2362320"/>
              <a:ext cx="457200" cy="4114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07280 h 4114800"/>
                <a:gd name="textAreaBottom" fmla="*/ 4007520 h 41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43600" y="2590920"/>
              <a:ext cx="274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¿Fue la oferta Israelí perfecta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943600" y="32767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siblemente no, pero fue muy parecida a la que demandaban los Palestinos, y fue un auténtico ataque en el conflic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4813200"/>
            <a:ext cx="2743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s palestinos podrían haber seguido las negociaciones y conseguir mediante el diálogo lo qu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están consiguiendo ahora con terr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2280" y="2286000"/>
            <a:ext cx="4953240" cy="711360"/>
            <a:chOff x="152280" y="2286000"/>
            <a:chExt cx="4953240" cy="711360"/>
          </a:xfrm>
        </p:grpSpPr>
        <p:sp>
          <p:nvSpPr>
            <p:cNvPr id="123" name=""/>
            <p:cNvSpPr/>
            <p:nvPr/>
          </p:nvSpPr>
          <p:spPr>
            <a:xfrm>
              <a:off x="1295280" y="2286000"/>
              <a:ext cx="190512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Israel Ofreci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0400" y="2286000"/>
              <a:ext cx="190512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Palestinos Demandab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80" y="2286000"/>
              <a:ext cx="114300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ïtem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280" y="2286000"/>
              <a:ext cx="4953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280" y="2997360"/>
              <a:ext cx="495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52280" y="2997360"/>
            <a:ext cx="4953240" cy="1185840"/>
            <a:chOff x="152280" y="2997360"/>
            <a:chExt cx="4953240" cy="1185840"/>
          </a:xfrm>
        </p:grpSpPr>
        <p:sp>
          <p:nvSpPr>
            <p:cNvPr id="129" name=""/>
            <p:cNvSpPr/>
            <p:nvPr/>
          </p:nvSpPr>
          <p:spPr>
            <a:xfrm>
              <a:off x="1295280" y="2997360"/>
              <a:ext cx="190512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97% de Cisjordania y Gaza + 3% de tierras dentro de Isra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2997360"/>
              <a:ext cx="190512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100% de Cisjordania y Gaz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80" y="2997360"/>
              <a:ext cx="114300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Territori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80" y="4183200"/>
              <a:ext cx="495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3353040"/>
              <a:ext cx="39060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152280" y="4183200"/>
            <a:ext cx="4953240" cy="1184040"/>
            <a:chOff x="152280" y="4183200"/>
            <a:chExt cx="4953240" cy="1184040"/>
          </a:xfrm>
        </p:grpSpPr>
        <p:sp>
          <p:nvSpPr>
            <p:cNvPr id="135" name=""/>
            <p:cNvSpPr/>
            <p:nvPr/>
          </p:nvSpPr>
          <p:spPr>
            <a:xfrm>
              <a:off x="1295280" y="4183200"/>
              <a:ext cx="19051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Parte Este Palestina de Jerusal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00400" y="4183200"/>
              <a:ext cx="190512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Parte Este Palestina de Jerusal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280" y="4183200"/>
              <a:ext cx="1143000" cy="11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Jerusal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280" y="5367240"/>
              <a:ext cx="495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457200" y="4571640"/>
              <a:ext cx="52380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152280" y="5367240"/>
            <a:ext cx="4953240" cy="1487880"/>
            <a:chOff x="152280" y="5367240"/>
            <a:chExt cx="4953240" cy="1487880"/>
          </a:xfrm>
        </p:grpSpPr>
        <p:grpSp>
          <p:nvGrpSpPr>
            <p:cNvPr id="141" name=""/>
            <p:cNvGrpSpPr/>
            <p:nvPr/>
          </p:nvGrpSpPr>
          <p:grpSpPr>
            <a:xfrm>
              <a:off x="152280" y="5367240"/>
              <a:ext cx="4953240" cy="1185840"/>
              <a:chOff x="152280" y="5367240"/>
              <a:chExt cx="4953240" cy="1185840"/>
            </a:xfrm>
          </p:grpSpPr>
          <p:sp>
            <p:nvSpPr>
              <p:cNvPr id="142" name=""/>
              <p:cNvSpPr/>
              <p:nvPr/>
            </p:nvSpPr>
            <p:spPr>
              <a:xfrm>
                <a:off x="1295280" y="5367240"/>
                <a:ext cx="190512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</a:rPr>
                  <a:t>4 opciones de ciudadanía para los refugiados. Un número limitado se podrá mudar a  Israe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00400" y="5367240"/>
                <a:ext cx="190512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</a:rPr>
                  <a:t>Los 3 millones de refugiados podrán convertirse en ciudadanos israelíes.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52280" y="5367240"/>
                <a:ext cx="1143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Refuge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2280" y="6553080"/>
                <a:ext cx="4953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5867280"/>
                <a:ext cx="771480" cy="523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"/>
            <p:cNvSpPr/>
            <p:nvPr/>
          </p:nvSpPr>
          <p:spPr>
            <a:xfrm>
              <a:off x="356760" y="6608880"/>
              <a:ext cx="443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s: MEMRI Institute, </a:t>
              </a:r>
              <a:r>
                <a:rPr b="0" lang="en-US" sz="1000" spc="-1" strike="noStrike" u="sng">
                  <a:solidFill>
                    <a:srgbClr val="ccccff"/>
                  </a:solidFill>
                  <a:uFillTx/>
                  <a:latin typeface="Arial"/>
                  <a:hlinkClick r:id="rId4"/>
                </a:rPr>
                <a:t>www.haaretzdaily.com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Palestinian Media Watc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¿Cuál fue la réplica Palestina a Camp Dav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8120"/>
            <a:ext cx="716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vez de insistir en las negociaciones, la Autoridad Palestina ha instaurado una opresión sangrienta y una ola de ataques terroristas contra Isra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2895480" cy="1915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2895480" cy="191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470320" y="4334040"/>
            <a:ext cx="1873080" cy="2371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495680" y="4334040"/>
            <a:ext cx="1766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¿Es el terror una respuesta legítima al estancamiento polít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280" y="1447920"/>
            <a:ext cx="6094440" cy="4238640"/>
            <a:chOff x="152280" y="1447920"/>
            <a:chExt cx="6094440" cy="4238640"/>
          </a:xfrm>
        </p:grpSpPr>
        <p:graphicFrame>
          <p:nvGraphicFramePr>
            <p:cNvPr id="156" name=""/>
            <p:cNvGraphicFramePr/>
            <p:nvPr/>
          </p:nvGraphicFramePr>
          <p:xfrm>
            <a:off x="152280" y="1447920"/>
            <a:ext cx="6094440" cy="406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447920"/>
                      <a:ext cx="6094440" cy="40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152280" y="5410080"/>
              <a:ext cx="297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s: Peace Watch, News Re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91120" y="55911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uerdos de Oslo y Gobierno de Rab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00400" y="2819520"/>
            <a:ext cx="1143000" cy="3047760"/>
            <a:chOff x="3200400" y="2819520"/>
            <a:chExt cx="1143000" cy="3047760"/>
          </a:xfrm>
        </p:grpSpPr>
        <p:sp>
          <p:nvSpPr>
            <p:cNvPr id="161" name=""/>
            <p:cNvSpPr/>
            <p:nvPr/>
          </p:nvSpPr>
          <p:spPr>
            <a:xfrm>
              <a:off x="3809880" y="5410080"/>
              <a:ext cx="38124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00400" y="2819520"/>
              <a:ext cx="1143000" cy="2590560"/>
            </a:xfrm>
            <a:custGeom>
              <a:avLst/>
              <a:gdLst>
                <a:gd name="textAreaLeft" fmla="*/ 55800 w 1143000"/>
                <a:gd name="textAreaRight" fmla="*/ 1087200 w 1143000"/>
                <a:gd name="textAreaTop" fmla="*/ 55800 h 2590560"/>
                <a:gd name="textAreaBottom" fmla="*/ 2534760 h 2590560"/>
              </a:gdLst>
              <a:ahLst/>
              <a:rect l="textAreaLeft" t="textAreaTop" r="textAreaRight" b="textAreaBottom"/>
              <a:pathLst>
                <a:path w="21600" h="48947">
                  <a:moveTo>
                    <a:pt x="3600" y="0"/>
                  </a:moveTo>
                  <a:arcTo wR="3600" hR="3600" stAng="16200000" swAng="-5400000"/>
                  <a:lnTo>
                    <a:pt x="0" y="45347"/>
                  </a:lnTo>
                  <a:arcTo wR="3600" hR="3600" stAng="10800000" swAng="-5400000"/>
                  <a:lnTo>
                    <a:pt x="18000" y="489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095880" y="2209680"/>
            <a:ext cx="2895480" cy="3886200"/>
            <a:chOff x="6095880" y="2209680"/>
            <a:chExt cx="2895480" cy="3886200"/>
          </a:xfrm>
        </p:grpSpPr>
        <p:sp>
          <p:nvSpPr>
            <p:cNvPr id="164" name=""/>
            <p:cNvSpPr/>
            <p:nvPr/>
          </p:nvSpPr>
          <p:spPr>
            <a:xfrm>
              <a:off x="6095880" y="2209680"/>
              <a:ext cx="457200" cy="38862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01160 h 3886200"/>
                <a:gd name="textAreaBottom" fmla="*/ 378504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6553080" y="2514240"/>
              <a:ext cx="2438280" cy="3398760"/>
              <a:chOff x="6553080" y="2514240"/>
              <a:chExt cx="2438280" cy="33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553080" y="3898800"/>
                <a:ext cx="243828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na de las más mortíferas olas de ataques ocurrieron durante el periodo de los más grandes avances a nivel político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53080" y="2514240"/>
                <a:ext cx="2190600" cy="134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l terrorismo es injust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l terrorismo NO es una alternativa para negoc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37339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í como Egipto y Jordania negociaron con Israel y están hoy en día en paz, los palestinos podrían haber elegido el camino diplomá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claración 3: El líder Palestino Yasser Arafat no es responsable por los atentados terror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828800" y="2311560"/>
            <a:ext cx="5334120" cy="3174840"/>
            <a:chOff x="1828800" y="2311560"/>
            <a:chExt cx="5334120" cy="317484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1828800" y="2311560"/>
              <a:ext cx="5334120" cy="31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438640" y="2921040"/>
              <a:ext cx="6858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81440" y="2843280"/>
              <a:ext cx="1523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 lo pue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en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¿Qué dice Araf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68604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Árabe, 3 días a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4382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 Ingl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0600" y="5424480"/>
            <a:ext cx="7256880" cy="1427400"/>
            <a:chOff x="210600" y="5424480"/>
            <a:chExt cx="7256880" cy="1427400"/>
          </a:xfrm>
        </p:grpSpPr>
        <p:sp>
          <p:nvSpPr>
            <p:cNvPr id="180" name=""/>
            <p:cNvSpPr/>
            <p:nvPr/>
          </p:nvSpPr>
          <p:spPr>
            <a:xfrm>
              <a:off x="210600" y="6575400"/>
              <a:ext cx="282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r>
                <a:rPr b="0" lang="en-US" sz="12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www.imra.org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, </a:t>
              </a:r>
              <a:r>
                <a:rPr b="0" lang="en-US" sz="12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nyt.com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" y="5424480"/>
              <a:ext cx="6781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stoy listo para sacrificar 70 mártires para matar a cada israelí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En la Radio Oficial Palestina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18 de diciembre de 200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162320" y="304920"/>
            <a:ext cx="2009880" cy="1600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85800" y="2743200"/>
            <a:ext cx="64008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condemn the suicide attacks against Israeli civilians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  <a:ea typeface="Arial"/>
              </a:rPr>
              <a:t>Yo condeno los ataques suicidas contra los civiles israelí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New York Times, 03/02/2002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052880"/>
            <a:ext cx="5943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movimiento Fatah orgullosamente glorifica a su heroina y mártir, del campo de Alamari, la mártir Wafa Idri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Sobre la mujer suicida, Ramalah, 31/01/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-38520" y="2514600"/>
            <a:ext cx="3394440" cy="4345560"/>
            <a:chOff x="-38520" y="2514600"/>
            <a:chExt cx="3394440" cy="434556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128520" y="2514600"/>
              <a:ext cx="322740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-38520" y="6553080"/>
              <a:ext cx="332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imra.org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,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3"/>
                </a:rPr>
                <a:t>www.cnn.co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¿Qué hace Araf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185724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a de las Brigadas de Mártires de Al Aqsa a la Autoridad Nacional Palesti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886200" y="198360"/>
            <a:ext cx="1981080" cy="147816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76320" y="1832040"/>
            <a:ext cx="7391160" cy="2816280"/>
            <a:chOff x="76320" y="1832040"/>
            <a:chExt cx="7391160" cy="2816280"/>
          </a:xfrm>
        </p:grpSpPr>
        <p:sp>
          <p:nvSpPr>
            <p:cNvPr id="192" name=""/>
            <p:cNvSpPr/>
            <p:nvPr/>
          </p:nvSpPr>
          <p:spPr>
            <a:xfrm>
              <a:off x="4267080" y="1832040"/>
              <a:ext cx="3200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"5)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…)</a:t>
              </a:r>
              <a:r>
                <a:rPr b="0" lang="pt-BR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sotros requerimos un promedio semanal de 5 a 9 cargas explosivas para  escuadrones en varias áreas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320" y="4191120"/>
              <a:ext cx="3352680" cy="457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429000" y="2514240"/>
              <a:ext cx="762120" cy="167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343400" y="2971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El ministro de Finanzas Palestino, firmó este documento, directamente financiando a grupos terrori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41911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sultados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05720" y="4267080"/>
            <a:ext cx="217800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3886200" y="5181480"/>
            <a:ext cx="217800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5638680" y="4876920"/>
            <a:ext cx="217800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s obstáculos para la P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62120" y="1676520"/>
            <a:ext cx="7772400" cy="4873680"/>
            <a:chOff x="762120" y="1676520"/>
            <a:chExt cx="7772400" cy="4873680"/>
          </a:xfrm>
        </p:grpSpPr>
        <p:grpSp>
          <p:nvGrpSpPr>
            <p:cNvPr id="202" name=""/>
            <p:cNvGrpSpPr/>
            <p:nvPr/>
          </p:nvGrpSpPr>
          <p:grpSpPr>
            <a:xfrm>
              <a:off x="762120" y="1676520"/>
              <a:ext cx="7772400" cy="4873680"/>
              <a:chOff x="762120" y="1676520"/>
              <a:chExt cx="7772400" cy="4873680"/>
            </a:xfrm>
          </p:grpSpPr>
          <p:pic>
            <p:nvPicPr>
              <p:cNvPr id="2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676520"/>
                <a:ext cx="7772400" cy="487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1193760" y="1936800"/>
                <a:ext cx="1293840" cy="87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62400" y="2111400"/>
                <a:ext cx="949320" cy="34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92400" y="2286000"/>
                <a:ext cx="1208160" cy="434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06640" y="1919160"/>
                <a:ext cx="138096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Los ataques suicidas continuarán hasta que Israel desocupe los territorios ocupado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05280" y="2266920"/>
                <a:ext cx="1380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De Cisjordania y Gaza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03920" y="2181240"/>
                <a:ext cx="1380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…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deIsrael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333440" y="4754520"/>
              <a:ext cx="457200" cy="27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19320" y="47545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a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43680" y="4724280"/>
              <a:ext cx="457200" cy="274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7242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a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cientemente, Israel ha efectuado una ofensiva mayor en diferentes pueblos Palest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85840" y="2057040"/>
            <a:ext cx="4800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ás de 10 ciudades ocup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rededor de 2000 prisioneros arre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es de armas confisc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947960"/>
            <a:ext cx="2819160" cy="2625840"/>
            <a:chOff x="533520" y="1947960"/>
            <a:chExt cx="2819160" cy="2625840"/>
          </a:xfrm>
        </p:grpSpPr>
        <p:sp>
          <p:nvSpPr>
            <p:cNvPr id="46" name=""/>
            <p:cNvSpPr/>
            <p:nvPr/>
          </p:nvSpPr>
          <p:spPr>
            <a:xfrm>
              <a:off x="533520" y="4297320"/>
              <a:ext cx="281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</a:t>
              </a:r>
              <a:r>
                <a:rPr b="0" lang="en-US" sz="12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www.cnn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533520" y="1947960"/>
              <a:ext cx="2819160" cy="229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284720" y="4292640"/>
            <a:ext cx="3200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9992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 los últimos años, a la población palestina le fue literalmente lavado el cerebro con un odio anti-israel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28600" y="1724040"/>
            <a:ext cx="4191120" cy="4996800"/>
            <a:chOff x="228600" y="1724040"/>
            <a:chExt cx="4191120" cy="499680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228600" y="1724040"/>
              <a:ext cx="1812960" cy="4905360"/>
            </a:xfrm>
            <a:prstGeom prst="rect">
              <a:avLst/>
            </a:prstGeom>
            <a:ln w="936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217" name=""/>
            <p:cNvSpPr/>
            <p:nvPr/>
          </p:nvSpPr>
          <p:spPr>
            <a:xfrm>
              <a:off x="2209680" y="5410080"/>
              <a:ext cx="22100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ágina 64 del libro oficial de la Autoridad Palestina de 5</a:t>
              </a:r>
              <a:r>
                <a:rPr b="1" lang="en-US" sz="16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º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grado book: “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 existe Israel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724280" y="4419720"/>
            <a:ext cx="4419720" cy="2238120"/>
            <a:chOff x="4724280" y="4419720"/>
            <a:chExt cx="4419720" cy="2238120"/>
          </a:xfrm>
        </p:grpSpPr>
        <p:sp>
          <p:nvSpPr>
            <p:cNvPr id="219" name=""/>
            <p:cNvSpPr/>
            <p:nvPr/>
          </p:nvSpPr>
          <p:spPr>
            <a:xfrm>
              <a:off x="6324480" y="4572000"/>
              <a:ext cx="281952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lucha continuará hasta que sea liberada toda Palestina</a:t>
              </a:r>
              <a:r>
                <a:rPr b="1" lang="pt-B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"</a:t>
              </a:r>
              <a:r>
                <a:rPr b="0" lang="pt-B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Yasser Arafat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, en la Radio, La voz Palestina,</a:t>
              </a:r>
              <a:r>
                <a:rPr b="0" i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11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/11/1995</a:t>
              </a:r>
              <a:r>
                <a:rPr b="0" i="1" lang="pt-BR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4724280" y="4419720"/>
              <a:ext cx="1819440" cy="22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2590920" y="1828800"/>
            <a:ext cx="5914800" cy="1981080"/>
            <a:chOff x="2590920" y="1828800"/>
            <a:chExt cx="5914800" cy="1981080"/>
          </a:xfrm>
        </p:grpSpPr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2590920" y="1828800"/>
              <a:ext cx="19098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4"/>
            <a:stretch/>
          </p:blipFill>
          <p:spPr>
            <a:xfrm>
              <a:off x="5867280" y="1828800"/>
              <a:ext cx="263844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648320" y="2374920"/>
              <a:ext cx="1143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ducación de los jóven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n muchos casos, no es sobre crear Palestina. Es sobre destruir Isra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523880"/>
            <a:ext cx="3048120" cy="2561760"/>
            <a:chOff x="685800" y="1523880"/>
            <a:chExt cx="3048120" cy="2561760"/>
          </a:xfrm>
        </p:grpSpPr>
        <p:sp>
          <p:nvSpPr>
            <p:cNvPr id="227" name=""/>
            <p:cNvSpPr/>
            <p:nvPr/>
          </p:nvSpPr>
          <p:spPr>
            <a:xfrm>
              <a:off x="685800" y="3504960"/>
              <a:ext cx="304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alestinos celebran el atentado suicida en la pizzería Sbarr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1536840" y="1523880"/>
              <a:ext cx="1346040" cy="19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946080" y="4419720"/>
            <a:ext cx="2527200" cy="2440080"/>
            <a:chOff x="946080" y="4419720"/>
            <a:chExt cx="2527200" cy="2440080"/>
          </a:xfrm>
        </p:grpSpPr>
        <p:sp>
          <p:nvSpPr>
            <p:cNvPr id="230" name=""/>
            <p:cNvSpPr/>
            <p:nvPr/>
          </p:nvSpPr>
          <p:spPr>
            <a:xfrm>
              <a:off x="946080" y="6035760"/>
              <a:ext cx="2527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intura Palestina glorificando los atentados suicida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1052640" y="4419720"/>
              <a:ext cx="231444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4334040" y="1905120"/>
            <a:ext cx="4276440" cy="4449600"/>
            <a:chOff x="4334040" y="1905120"/>
            <a:chExt cx="4276440" cy="4449600"/>
          </a:xfrm>
        </p:grpSpPr>
        <p:sp>
          <p:nvSpPr>
            <p:cNvPr id="233" name=""/>
            <p:cNvSpPr/>
            <p:nvPr/>
          </p:nvSpPr>
          <p:spPr>
            <a:xfrm>
              <a:off x="4334040" y="3529080"/>
              <a:ext cx="4276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os niños son enseñados a odiar: ¿qué tipo de futuro se les está construyendo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3"/>
            <a:stretch/>
          </p:blipFill>
          <p:spPr>
            <a:xfrm>
              <a:off x="5095800" y="1905120"/>
              <a:ext cx="2743200" cy="15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4"/>
            <a:stretch/>
          </p:blipFill>
          <p:spPr>
            <a:xfrm>
              <a:off x="4714920" y="4262400"/>
              <a:ext cx="165096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5"/>
            <a:stretch/>
          </p:blipFill>
          <p:spPr>
            <a:xfrm>
              <a:off x="6543720" y="4262400"/>
              <a:ext cx="1687320" cy="209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asta que la educación por la paz prevalezca, el baño de sangre continuará en Medio O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38080" y="33526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o el diálogo y el respeto por ambos pueblos, Judío y Palestino, pueden traer la pa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2124000" cy="2124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6095880" y="914400"/>
            <a:ext cx="2143080" cy="2124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200400" y="4343400"/>
            <a:ext cx="27050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55640" y="5025960"/>
            <a:ext cx="777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7160" indent="-227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ríamos agradecidos si pudieses compartir tus opiniones con nosotros: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MidEast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7878@hotmail.com</a:t>
            </a: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33676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7160" indent="-22716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 embargo, las operaciones militares recientes son una defensa legítima contra una ola de terror que ha dejado cientos de muer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7160" indent="-22716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igual que cualquier democracia, Israel también comete errores. Es totalmente válido criticar al gobierno israelí y cuestionar su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533520"/>
            <a:ext cx="9067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clusiones fi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314964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7160" indent="-22716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do gobierno en el mundo tiene el derecho de defender a sus ciudad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60199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ación preparada  por un grupo de jóvenes voluntarios brasileños que creen en la pa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393372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7160" indent="-227160"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la hora de que los Palestinos renuncien a sembrar el terror y que Israel apoye cualquier iniciativa que contribuya a acabar con esta guerra terr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49116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Vivaldi"/>
              </a:rPr>
              <a:t>N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lgunos grupos han alegado que la acción de Israel es injustificada e ileg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2057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Decla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09480" y="3657600"/>
            <a:ext cx="7286760" cy="1400040"/>
            <a:chOff x="609480" y="3657600"/>
            <a:chExt cx="7286760" cy="1400040"/>
          </a:xfrm>
        </p:grpSpPr>
        <p:sp>
          <p:nvSpPr>
            <p:cNvPr id="52" name=""/>
            <p:cNvSpPr/>
            <p:nvPr/>
          </p:nvSpPr>
          <p:spPr>
            <a:xfrm>
              <a:off x="609480" y="365760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) Los palestinos no tienen otra alternativa de defender su causa excepto a través del ter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248520" y="3962520"/>
              <a:ext cx="1647720" cy="109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609480" y="5181480"/>
            <a:ext cx="7305840" cy="1371600"/>
            <a:chOff x="609480" y="5181480"/>
            <a:chExt cx="7305840" cy="1371600"/>
          </a:xfrm>
        </p:grpSpPr>
        <p:sp>
          <p:nvSpPr>
            <p:cNvPr id="55" name=""/>
            <p:cNvSpPr/>
            <p:nvPr/>
          </p:nvSpPr>
          <p:spPr>
            <a:xfrm>
              <a:off x="609480" y="51814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)El líder Palestino Yasser Arafat no es responsable por los atentados terroris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6248520" y="5353200"/>
              <a:ext cx="1666800" cy="102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609480" y="2514600"/>
            <a:ext cx="7315200" cy="1371600"/>
            <a:chOff x="609480" y="2514600"/>
            <a:chExt cx="7315200" cy="137160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248520" y="2700360"/>
              <a:ext cx="167616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09480" y="251460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) Israel está cometiendo un genocidio contra la población palestin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semos cada una de estas decla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claración 1: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Israel está cometiendo un genocidio contra la población palestina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¿Qué es genocid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35268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minación deliberada, total o parcial, de grupos comunitarios, étnicos, raciales o religiosos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uente: Houai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visemos si Israel en efecto ha cometido genoci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400" y="1980720"/>
            <a:ext cx="4648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pt-BR" sz="19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srael tiene uno de los mejores ejércitos en el mundo, con 3.900 tanques, 440 aviones de combate y 534.000 trop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629400" y="1828800"/>
            <a:ext cx="2514600" cy="3276720"/>
            <a:chOff x="6629400" y="1828800"/>
            <a:chExt cx="2514600" cy="3276720"/>
          </a:xfrm>
        </p:grpSpPr>
        <p:sp>
          <p:nvSpPr>
            <p:cNvPr id="67" name=""/>
            <p:cNvSpPr/>
            <p:nvPr/>
          </p:nvSpPr>
          <p:spPr>
            <a:xfrm>
              <a:off x="6629400" y="1828800"/>
              <a:ext cx="304920" cy="32767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8840 h 3276720"/>
                <a:gd name="textAreaBottom" fmla="*/ 3197880 h 32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32"/>
                    <a:pt x="10800" y="1664"/>
                  </a:cubicBezTo>
                  <a:lnTo>
                    <a:pt x="10800" y="9136"/>
                  </a:lnTo>
                  <a:cubicBezTo>
                    <a:pt x="10800" y="9968"/>
                    <a:pt x="16200" y="10800"/>
                    <a:pt x="21600" y="10800"/>
                  </a:cubicBezTo>
                  <a:cubicBezTo>
                    <a:pt x="16200" y="10800"/>
                    <a:pt x="10800" y="11632"/>
                    <a:pt x="10800" y="12464"/>
                  </a:cubicBezTo>
                  <a:lnTo>
                    <a:pt x="10800" y="19936"/>
                  </a:lnTo>
                  <a:cubicBezTo>
                    <a:pt x="10800" y="2076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34320" y="2481120"/>
              <a:ext cx="2209680" cy="24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egunta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Si Israel realmente intenta exterminar al pueblo Palestino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ría el número de muertes diarias causadas por el ejército 2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057400" y="3429000"/>
            <a:ext cx="4648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Durante estos 18 meses de Intifada (opresión), cerca de 1.200 Palestinos y 300 Israelíes murieron.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Son cerca de 2 Palestinos por día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 7 de Abril de 2002   fuente: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time.co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533412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¿Cuántos realmente hubiesen muerto si el Gobierno Israelí  hubiese decidido en realidad ordenar al ejército mat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6320" y="2254320"/>
            <a:ext cx="3200040" cy="2928600"/>
            <a:chOff x="76320" y="2254320"/>
            <a:chExt cx="3200040" cy="2928600"/>
          </a:xfrm>
        </p:grpSpPr>
        <p:sp>
          <p:nvSpPr>
            <p:cNvPr id="72" name=""/>
            <p:cNvSpPr/>
            <p:nvPr/>
          </p:nvSpPr>
          <p:spPr>
            <a:xfrm>
              <a:off x="76320" y="4906440"/>
              <a:ext cx="320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</a:t>
              </a:r>
              <a:r>
                <a:rPr b="0" lang="en-US" sz="1200" spc="-1" strike="noStrike" u="sng">
                  <a:solidFill>
                    <a:srgbClr val="ccccff"/>
                  </a:solidFill>
                  <a:uFillTx/>
                  <a:latin typeface="Arial"/>
                  <a:hlinkClick r:id="rId2"/>
                </a:rPr>
                <a:t>www.bbc.com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62720" y="2254320"/>
              <a:ext cx="2064960" cy="2581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mparemos algunos eventos históricos con la Intif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69056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úmero de muer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8600" y="3505320"/>
            <a:ext cx="2895480" cy="616680"/>
            <a:chOff x="228600" y="3505320"/>
            <a:chExt cx="2895480" cy="616680"/>
          </a:xfrm>
        </p:grpSpPr>
        <p:sp>
          <p:nvSpPr>
            <p:cNvPr id="77" name=""/>
            <p:cNvSpPr/>
            <p:nvPr/>
          </p:nvSpPr>
          <p:spPr>
            <a:xfrm>
              <a:off x="1600200" y="3505320"/>
              <a:ext cx="79200" cy="792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" y="3657600"/>
              <a:ext cx="289548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tif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0" y="5334120"/>
            <a:ext cx="3733920" cy="1681200"/>
            <a:chOff x="0" y="5334120"/>
            <a:chExt cx="3733920" cy="1681200"/>
          </a:xfrm>
        </p:grpSpPr>
        <p:sp>
          <p:nvSpPr>
            <p:cNvPr id="80" name=""/>
            <p:cNvSpPr/>
            <p:nvPr/>
          </p:nvSpPr>
          <p:spPr>
            <a:xfrm>
              <a:off x="0" y="5334120"/>
              <a:ext cx="3733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ta: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Las áreas de los recuadros anteriores son proporcionales al número de muertos en cada evento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6194520"/>
              <a:ext cx="35812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7 de Abril de 2002 fuente: </a:t>
              </a:r>
              <a:r>
                <a:rPr b="0" lang="en-US" sz="1400" spc="-1" strike="noStrike" u="sng">
                  <a:solidFill>
                    <a:srgbClr val="ccccff"/>
                  </a:solidFill>
                  <a:uFillTx/>
                  <a:latin typeface="Arial"/>
                  <a:hlinkClick r:id="rId1"/>
                </a:rPr>
                <a:t>www.time.co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635280" y="1523880"/>
            <a:ext cx="5333760" cy="5333760"/>
            <a:chOff x="3635280" y="1523880"/>
            <a:chExt cx="5333760" cy="5333760"/>
          </a:xfrm>
        </p:grpSpPr>
        <p:sp>
          <p:nvSpPr>
            <p:cNvPr id="83" name=""/>
            <p:cNvSpPr/>
            <p:nvPr/>
          </p:nvSpPr>
          <p:spPr>
            <a:xfrm>
              <a:off x="3635280" y="1523880"/>
              <a:ext cx="5333760" cy="53337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c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82840" y="3673080"/>
              <a:ext cx="266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locaus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La Shoá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00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¿Cuáles son las propor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038480" y="2257560"/>
            <a:ext cx="6096240" cy="4301280"/>
            <a:chOff x="4038480" y="2257560"/>
            <a:chExt cx="6096240" cy="4301280"/>
          </a:xfrm>
        </p:grpSpPr>
        <p:graphicFrame>
          <p:nvGraphicFramePr>
            <p:cNvPr id="87" name=""/>
            <p:cNvGraphicFramePr/>
            <p:nvPr/>
          </p:nvGraphicFramePr>
          <p:xfrm>
            <a:off x="4038480" y="2257560"/>
            <a:ext cx="6096240" cy="406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8480" y="2257560"/>
                      <a:ext cx="6096240" cy="40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5791320" y="6000840"/>
              <a:ext cx="228600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.000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--------------</a:t>
              </a: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8.000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-533520" y="1200240"/>
            <a:ext cx="6096240" cy="5629320"/>
            <a:chOff x="-533520" y="1200240"/>
            <a:chExt cx="6096240" cy="5629320"/>
          </a:xfrm>
        </p:grpSpPr>
        <p:graphicFrame>
          <p:nvGraphicFramePr>
            <p:cNvPr id="91" name=""/>
            <p:cNvGraphicFramePr/>
            <p:nvPr/>
          </p:nvGraphicFramePr>
          <p:xfrm>
            <a:off x="-533520" y="1200240"/>
            <a:ext cx="6096240" cy="4066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533520" y="1200240"/>
                      <a:ext cx="6096240" cy="40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1219320" y="4933800"/>
              <a:ext cx="228600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--------------</a:t>
              </a: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.000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320" y="6553080"/>
              <a:ext cx="320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s: MEMRI Institute, </a:t>
              </a:r>
              <a:r>
                <a:rPr b="0" lang="en-US" sz="1200" spc="-1" strike="noStrike" u="sng">
                  <a:solidFill>
                    <a:srgbClr val="ccccff"/>
                  </a:solidFill>
                  <a:uFillTx/>
                  <a:latin typeface="Arial"/>
                  <a:hlinkClick r:id="rId5"/>
                </a:rPr>
                <a:t>www.bbc.com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0808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168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s posible que ocurran abusos dentro del ejército de Isra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Éstos deben ser investigados y se debe castigar asimismo a los responsables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28880" y="38862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n embargo, comparar las recientes acciones militares con un genocidio, es absurdo, al igual que declarar que todos los árabes son terror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38:04Z</dcterms:created>
  <dc:creator>Middle East</dc:creator>
  <dc:description/>
  <dc:language>en-US</dc:language>
  <cp:lastModifiedBy>Flia, Szewkis Sabah</cp:lastModifiedBy>
  <dcterms:modified xsi:type="dcterms:W3CDTF">2003-12-28T00:02:14Z</dcterms:modified>
  <cp:revision>617</cp:revision>
  <dc:subject/>
  <dc:title>Apresentação do PowerPoint</dc:title>
</cp:coreProperties>
</file>